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4.jpeg" ContentType="image/jpeg"/>
  <Override PartName="/ppt/media/CAMERA.WAV" ContentType="audio/x-wav"/>
  <Override PartName="/ppt/media/image28.png" ContentType="image/png"/>
  <Override PartName="/ppt/media/image31.wmf" ContentType="image/x-wmf"/>
  <Override PartName="/ppt/media/image1.wmf" ContentType="image/x-wmf"/>
  <Override PartName="/ppt/media/image9.wmf" ContentType="image/x-wmf"/>
  <Override PartName="/ppt/media/image30.jpeg" ContentType="image/jpeg"/>
  <Override PartName="/ppt/media/image15.png" ContentType="image/png"/>
  <Override PartName="/ppt/media/image33.jpeg" ContentType="image/jpeg"/>
  <Override PartName="/ppt/media/image4.wmf" ContentType="image/x-wmf"/>
  <Override PartName="/ppt/media/image29.jpeg" ContentType="image/jpeg"/>
  <Override PartName="/ppt/media/image3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12.jpeg" ContentType="image/jpeg"/>
  <Override PartName="/ppt/media/image13.jpeg" ContentType="image/jpe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315-EFF8-4D3D-A286-4C91FE6D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EB3-4CDB-4F55-8A25-9BD61AF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320-FF62-4F33-8828-CFDAD6E2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CA6-6E6F-481B-8F45-5438E7EB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A05-6AF0-4428-838D-A62DC80D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EA4E-ED2E-4F34-B4AE-EB3DB35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539A-DB2A-4831-90C2-78812B9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1D54-503A-43AE-82F7-A3261FA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B29A-CE91-46D3-B5BF-4DF7DA7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8DB5-A227-40A3-B17D-F4347D2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CDD-05DC-4105-B2FA-DD42F2C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192-CC4B-4A04-A788-8481BB6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06F1-1EDC-4B26-A5E1-8D3D494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F9B5-D59C-4D4B-844D-661A6C8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58E5-7F26-4794-A8AE-F3407C86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F18-A731-46C1-A398-F87AED5D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D3C0-B3BE-43A3-A43E-632BD7CA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CE9-1C38-4899-8145-3191516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42C-CEFF-40A7-B82B-F5066E2A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472-AD60-468B-B6C0-A9BF8CD5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719-C301-4B3E-8D96-1C963C9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B1C-AF89-43EE-90C4-B22AFE1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B77-151C-4688-B2A9-1470A189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48F-23AA-4C38-8BD0-0CA73DB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2FE-76FA-4913-960B-FA7DCBBE7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A128-0C6D-47C1-87B0-7C63C52E2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opkins-gi.org/multimedia/database/intro_247_Parietal.swf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9064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The Digestion </a:t>
            </a:r>
            <a:br>
              <a:rPr sz="5400"/>
            </a:b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System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31237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 8m tube, from m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anu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G:\Clipart\Powerpnt\abdomen.wmf"/>
          <p:cNvPicPr/>
          <p:nvPr/>
        </p:nvPicPr>
        <p:blipFill>
          <a:blip r:embed="rId1"/>
          <a:stretch/>
        </p:blipFill>
        <p:spPr>
          <a:xfrm>
            <a:off x="6095880" y="1143000"/>
            <a:ext cx="2765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ve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467000"/>
            <a:ext cx="3033720" cy="539100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/>
          </p:cNvPr>
          <p:cNvSpPr/>
          <p:nvPr/>
        </p:nvSpPr>
        <p:spPr>
          <a:xfrm>
            <a:off x="4125600" y="205740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ionden.com/peristalsis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Times New Roman"/>
              </a:rPr>
              <a:t>2. Stomach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79200" y="1600200"/>
            <a:ext cx="4900680" cy="5638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32160" y="22824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hur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or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emic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ig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id 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zyme Pepsinsinogen and renn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tch receptors initiate gastric horm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cus Lining prevents digestion of itself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stimulates acid producti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trin- activates HCl, pancreas, and small intest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dis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a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s of food (nerve inp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it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s autodi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secretion when pH is ~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ck mucus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3440" y="20224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nimation of aci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ast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ted from the pyloric region of the stomach and upper duode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by food, thoughts of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flow of stomach enzymes and H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contraction of cardiac sphin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s gastric empt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Liver and bi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00000" y="907920"/>
            <a:ext cx="6242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ver involved in storage of vitamins &amp; minerals, glycog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oxifies chemicals like alcoh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s protein levels (deamination) to make ur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s sal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99ff"/>
                </a:solidFill>
                <a:latin typeface="Times New Roman"/>
              </a:rPr>
              <a:t>Bile is a mixture of unwanted cholestrols (emulsifiers), bicarbonate ions, excess salts and pygments like ha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803240" cy="227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Pancre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2852640"/>
            <a:ext cx="7772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icarbonate ions: HCO3- neutralises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mylase: starch to malt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ypsin: proteins to polypept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ospholipase: phospholipids to P.lipids, f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pase: lipids to glycerol &amp; f.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creatic Juice pH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80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cret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ted from the duodenum, jeju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by the presence of acidic chyme and the presence of peptones in the duode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the secretion of bicarb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s gastric empt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Explain the structural features of exocrine gland cells.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6" name="" descr="acinus"/>
          <p:cNvPicPr/>
          <p:nvPr/>
        </p:nvPicPr>
        <p:blipFill>
          <a:blip r:embed="rId1"/>
          <a:stretch/>
        </p:blipFill>
        <p:spPr>
          <a:xfrm>
            <a:off x="755640" y="3213000"/>
            <a:ext cx="3527280" cy="299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862880" y="285264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common struct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038760" cy="227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70720" y="193680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ocrine glands – secrete into a du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rine….? (ductles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70164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1520" y="0"/>
            <a:ext cx="76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.3.1Draw and label a diagram showing a transverse 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 the ileum as seen under a light microsco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3. Small Intest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79200" y="1752480"/>
            <a:ext cx="5330880" cy="5486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10080" y="533160"/>
            <a:ext cx="3456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sorp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ges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pids (fa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psinogen activated by H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pase &amp; Amylase from the panc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obilised enzymes on epithel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Why Diges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nutrients are too large and insol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ysical breakdown increases s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emical breakdown increases solu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33560" y="0"/>
            <a:ext cx="6710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0" r="0" b="10815"/>
          <a:stretch/>
        </p:blipFill>
        <p:spPr>
          <a:xfrm>
            <a:off x="6021360" y="836640"/>
            <a:ext cx="3122640" cy="5373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579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ds, villi, microvilli expand absorptiv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nutrients absorbed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-soluble nutrients go into ly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nutrients into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3440" y="0"/>
            <a:ext cx="69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Digestion in Small Intesti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0800" y="5514840"/>
            <a:ext cx="598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lain the structural features of villi inclu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crovilli, mitochondria, pinocytotic vesic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tight junc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.2.5 Outline the role of membrane-bound enzymes on the surface of epithelial cells in the small intestine in diges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4191120" cy="275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6335640" cy="196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784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3960" y="4076640"/>
            <a:ext cx="37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mobilised enzymes in the plas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y are…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Overview of Absorpt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sorptive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ssive diffusion • Facilitated diffusion • Active 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53074" b="52111"/>
          <a:stretch/>
        </p:blipFill>
        <p:spPr>
          <a:xfrm>
            <a:off x="0" y="2057400"/>
            <a:ext cx="309240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51299" t="0" r="0" b="50870"/>
          <a:stretch/>
        </p:blipFill>
        <p:spPr>
          <a:xfrm>
            <a:off x="3124080" y="2057400"/>
            <a:ext cx="3006720" cy="3733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rcRect l="27483" t="50623" r="23056" b="0"/>
          <a:stretch/>
        </p:blipFill>
        <p:spPr>
          <a:xfrm>
            <a:off x="6167520" y="2057400"/>
            <a:ext cx="29764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2617" r="0" b="0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Large intestine = 1.5m long (caecum, colon, rectum). No di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Site of water, salt, vitamin absorption (leaving a mass in a semi-solid state). Vitamin K by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Almost everything of nutritional value has been utilized by time it reaches the large intestines -- leaving only waste (cellulose, pectins, pentosans, oth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Feces contains some water, dead mucosal cells, bacteria, non-absorbed remains of digestion (inorganic matter and lip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02"/>
                </a:solidFill>
                <a:latin typeface="Times New Roman"/>
              </a:rPr>
              <a:t>Absorption from Large Intesti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9. Appendix: vestigial orga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ws and their bacteria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5373720"/>
            <a:ext cx="77724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thout intestinal symbiotic bacteria, humans wouldn’t be able to digest many fibrous foods or get many essential vitami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695920" cy="39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H.2.6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Outline the reasons for cellulose not being digested in the alimentary cana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jor component of the plant cell 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not possess cellulase enzy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not have bacteria/protozoan in the gut which produces cellulase (herbivores 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od consequence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bre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maintain peristal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05032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Gastrointestinal Tract-Recap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0" t="2315" r="0" b="0"/>
          <a:stretch/>
        </p:blipFill>
        <p:spPr>
          <a:xfrm>
            <a:off x="914400" y="609480"/>
            <a:ext cx="7086600" cy="629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bjective 6.1.3 </a:t>
            </a:r>
            <a:br>
              <a:rPr sz="4000"/>
            </a:b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426960"/>
          <a:ext cx="8229600" cy="5310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zy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yl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e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p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ple of enzy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ivary amyl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ps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creatic lip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m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cre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st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r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iglycerides (fats or oi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tose (needs to be further broken dow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mall polypeptides (chain of amino acid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tty Acids and Glycer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timum p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7 (7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–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116000" y="587700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gestive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mentary canal- mouth to a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trient production (by bacter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ntrol of Digestion by the Nervous System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22600" y="907920"/>
            <a:ext cx="4721400" cy="5639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Nutrition and GI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3780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, dry, infrequent s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 by high fiber, fluid intake,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se, watery, frequent s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 of diseases/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cause dehyd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verti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ches along co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fiber diet reduces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4413240" cy="68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l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licobacter pyl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use of aspi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acid production in the stom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2 hours after 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95880" y="3505320"/>
            <a:ext cx="202104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artbur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esophageal reflux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nawing pain in the upper ch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id from the stomach to the esoph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er m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fatty m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lie down after e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ffending f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950080" y="3505320"/>
            <a:ext cx="217476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stip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6337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s movement of fecal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fluid reabsorption; hardening of the f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from ignoring normal u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acids, calcium and iron supp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nty of dietary fiber and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x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0" b="22739"/>
          <a:stretch/>
        </p:blipFill>
        <p:spPr>
          <a:xfrm>
            <a:off x="6286680" y="0"/>
            <a:ext cx="2857320" cy="359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3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ue or false is stress the cause of stomach ulc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s the name of the organism that causes ulc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y does the HCl and pepsin have no effect on the organis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y can it survive where it liv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does the immune system respond and what are the consequences of th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effect does the organism have on the gastric aci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s the consequence of th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very bad infection of the bacteria could lead to wha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Quiz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ess does not cause stomach ul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bacteria lives in the mucus on the surface of the epithelial ce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H is higher and no enzyme can get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immune system responds by white blood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umulation of WBCs can damage tissue and cause and ul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bacteria decreases the amount of gastric ac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re chance of ulcers with less ac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ery bad infection of the bacteria could lead to can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I. Digestion Products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arbo-hydra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pi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0240" y="1142640"/>
            <a:ext cx="4141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b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cle,enzymes,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use for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ple sugar (gluco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 energy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tty acids &amp; glyc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food, insulation,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ed for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Object 4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" descr=""/>
          <p:cNvPicPr/>
          <p:nvPr/>
        </p:nvPicPr>
        <p:blipFill>
          <a:blip r:embed="rId2"/>
          <a:stretch/>
        </p:blipFill>
        <p:spPr>
          <a:xfrm>
            <a:off x="3048120" y="5029200"/>
            <a:ext cx="977760" cy="15238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6" descr=""/>
          <p:cNvPicPr/>
          <p:nvPr/>
        </p:nvPicPr>
        <p:blipFill>
          <a:blip r:embed="rId3"/>
          <a:stretch/>
        </p:blipFill>
        <p:spPr>
          <a:xfrm>
            <a:off x="3200400" y="3211560"/>
            <a:ext cx="1676520" cy="119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Be able to draw the gut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843280" y="1096920"/>
            <a:ext cx="388944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I Tra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                       M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lus                   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yme                  Duode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ju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”                     Cec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cending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verse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ding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moid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200400"/>
            <a:ext cx="1752480" cy="1371600"/>
          </a:xfrm>
          <a:prstGeom prst="rect">
            <a:avLst/>
          </a:prstGeom>
          <a:noFill/>
          <a:ln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72000"/>
            <a:ext cx="2895840" cy="228600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465280" cy="3465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38280" y="1676520"/>
            <a:ext cx="0" cy="4724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What do you think actually happens?</a:t>
            </a:r>
            <a:br>
              <a:rPr sz="2400"/>
            </a:b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Complete the cartoon strip on the board using diagram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113364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I   1)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Mouth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9400" y="1676520"/>
            <a:ext cx="4830480" cy="5486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32160" y="6854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l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reaks up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hemicall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dige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ic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zyme amylase from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ts &amp; form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bolu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gestion and the Mou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zymes to help breakdown simple sug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us to lubricate the food for easier swal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sozyme to kill bacte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n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te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Flavor is enhanced with the olfactory ce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zymes to help breakdown fatty ac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iglot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1719360" cy="173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4T04:50:46Z</dcterms:created>
  <dc:creator>Isla Cordelae</dc:creator>
  <dc:description/>
  <dc:language>en-US</dc:language>
  <cp:lastModifiedBy>me</cp:lastModifiedBy>
  <dcterms:modified xsi:type="dcterms:W3CDTF">2009-09-02T02:12:50Z</dcterms:modified>
  <cp:revision>35</cp:revision>
  <dc:subject/>
  <dc:title>The Digestion  System</dc:title>
</cp:coreProperties>
</file>